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E6EC3-4269-4813-AEA4-7D0D6FFE5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CC7AC-BDA1-47C8-AC6D-732A32C29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29B00-914B-4C16-AC7D-20087BC68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9B112-7101-462A-8B8F-B915789FA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79217-1CC7-45AC-A88F-933292A68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6A20A-81CC-418C-872F-231E3E29C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B1579-6CE0-4C67-97A7-ED404B7F5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0022D-97A9-4CDB-B46C-C7368C390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926BE-8128-488E-B0A6-66E9A5401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5B23A-5562-406F-B2A5-F09D658D9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54268-6417-49DA-8084-8EEC394A3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6F295-4E74-4FF3-B526-CE1A6EF7A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40875-7E8F-4230-8978-24BC365B5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252C2-0AB9-481E-92FE-4D90FE221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F100F-82D3-422E-B02F-9FF3D1FE7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F5284-A7ED-4A64-9EF9-171EE4811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2C984-430E-46F5-AC8B-AF5A74929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46592-093C-4098-8801-8C72FF92E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B85A3-A31B-47BA-81FC-D167E1C01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2760F-E0C9-48D0-A960-3896EF32C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4CF6D-85B0-4C75-ABD3-9CF3DB1B8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AE728-A5C4-4A67-9F69-C253D475E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A514D-07D0-49CE-8A57-A60F50E5D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090D2-2396-4742-B58F-717221EAE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2184-2383-4A04-8BEE-A8BBCAF6F4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6AB0-9AD7-4ACD-9A8C-D4E3DAF693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Narrative Patterns in Wuthering Height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eec94"/>
                </a:solidFill>
                <a:latin typeface="Times New Roman"/>
              </a:rPr>
              <a:t>Veracity of the Narrator</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Veracity of the narrator</a:t>
            </a:r>
            <a:r>
              <a:rPr b="0" lang="en-US" sz="3200" spc="-1" strike="noStrike">
                <a:solidFill>
                  <a:srgbClr val="ffffff"/>
                </a:solidFill>
                <a:latin typeface="Times New Roman"/>
              </a:rPr>
              <a:t> is a literary term which indicates that the reader must judge whether or not a character who narrates a story is truthful, is untruthful because he is deliberately lying, or is untruthful because his perception is skewed by his own experiences and person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R EXAMPLE</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r. Lockwood indicates to us (the readers) that Heathcliff is crude, crass, rough, and illiterat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soon see that Mr. Lockwood is a “city slicker” who is just a little (no, a lot) too effeminate S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R LOCKWOOD</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course he sees Heathcliff as a BRU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ever, Nelly Dean’s story seems to confirm Mr. Lockwood’s perceptio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EP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astardly NELLY?</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 that Nelly says that she ALWAYS-- from the very first day of his arrival-- hated Heathcliff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n fact</a:t>
            </a:r>
            <a:r>
              <a:rPr b="0" lang="en-US" sz="3200" spc="-1" strike="noStrike">
                <a:solidFill>
                  <a:srgbClr val="ffffff"/>
                </a:solidFill>
                <a:latin typeface="Times New Roman"/>
              </a:rPr>
              <a:t> when he was a young child stricken with a severe case of measles, and she was his nurse, she secretly took the child out on the cold stairs hoping that the chill would kill hi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MON CHILD</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when the freezing air didn’t kill the young child, she pronounced </a:t>
            </a:r>
            <a:r>
              <a:rPr b="0" i="1" lang="en-US" sz="3200" spc="-1" strike="noStrike">
                <a:solidFill>
                  <a:srgbClr val="ffffff"/>
                </a:solidFill>
                <a:latin typeface="Times New Roman"/>
              </a:rPr>
              <a:t>him </a:t>
            </a:r>
            <a:r>
              <a:rPr b="0" lang="en-US" sz="3200" spc="-1" strike="noStrike">
                <a:solidFill>
                  <a:srgbClr val="ffffff"/>
                </a:solidFill>
                <a:latin typeface="Times New Roman"/>
              </a:rPr>
              <a:t>a demon child. ( I just ask you, who’s the demon her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what about Joseph, the bad tempered gardener, who CONSTANTLY tells us that Heathcliff and Catherine are products of the devi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Joseph</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ll, if you haven’t figured this out, I’m beginning to get worried about you.</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seph believes that EVERYONE (except for him) is doomed to down und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LTIMATE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YOU</a:t>
            </a: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ader must draw his own conclusions about the story and especially about the people who relate the even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suspicious. See if you can make a case for Nelly Dean as a principal villa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ome other things to think about</a:t>
            </a: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factors will motivate whom you marr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ll you marry for love, security, social strata or passion? What about Catherine? </a:t>
            </a:r>
            <a:r>
              <a:rPr b="0" lang="en-US" sz="3200" spc="-1" strike="noStrike" u="sng">
                <a:solidFill>
                  <a:srgbClr val="ffffff"/>
                </a:solidFill>
                <a:uFillTx/>
                <a:latin typeface="Times New Roman"/>
              </a:rPr>
              <a:t>Which </a:t>
            </a:r>
            <a:r>
              <a:rPr b="0" lang="en-US" sz="3200" spc="-1" strike="noStrike">
                <a:solidFill>
                  <a:srgbClr val="ffffff"/>
                </a:solidFill>
                <a:latin typeface="Times New Roman"/>
              </a:rPr>
              <a:t>of her decisions were wro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eathcliff</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bout Heathcliff’s total disregard of all the conventions of society? Is he a free spirit that lives a genuine, authentic life without regard to “what other people think”?</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s he a horribly destructive force that threatens the fabric of socie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venge</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Heathcliff ever want reveng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m does Heathcliff have a grudge again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m does he punis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es revenge satisfy hi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H, YES, THE FLASHBACK</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eryone who has seen very many movies understands the technique of the </a:t>
            </a:r>
            <a:r>
              <a:rPr b="1" i="1" lang="en-US" sz="3600" spc="-1" strike="noStrike">
                <a:solidFill>
                  <a:srgbClr val="ffffff"/>
                </a:solidFill>
                <a:latin typeface="Times New Roman"/>
              </a:rPr>
              <a:t>flashback</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n author uses the </a:t>
            </a:r>
            <a:r>
              <a:rPr b="1" i="1" lang="en-US" sz="3200" spc="-1" strike="noStrike">
                <a:solidFill>
                  <a:srgbClr val="ffffff"/>
                </a:solidFill>
                <a:latin typeface="Times New Roman"/>
              </a:rPr>
              <a:t>flashback</a:t>
            </a:r>
            <a:r>
              <a:rPr b="0" lang="en-US" sz="3200" spc="-1" strike="noStrike">
                <a:solidFill>
                  <a:srgbClr val="ffffff"/>
                </a:solidFill>
                <a:latin typeface="Times New Roman"/>
              </a:rPr>
              <a:t>, he usually begins in the </a:t>
            </a:r>
            <a:r>
              <a:rPr b="0" lang="en-US" sz="3200" spc="-1" strike="noStrike" u="sng">
                <a:solidFill>
                  <a:srgbClr val="ffffff"/>
                </a:solidFill>
                <a:uFillTx/>
                <a:latin typeface="Times New Roman"/>
              </a:rPr>
              <a:t>present</a:t>
            </a:r>
            <a:r>
              <a:rPr b="0" lang="en-US" sz="3200" spc="-1" strike="noStrike">
                <a:solidFill>
                  <a:srgbClr val="ffffff"/>
                </a:solidFill>
                <a:latin typeface="Times New Roman"/>
              </a:rPr>
              <a:t> (Mr. Lockwood has rented a house, Thrushcross Grange, and is mightily intrigued by his rough and gruff landlord and neighbor, Mr. Heathcliff (first and last name the sa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ature vs. Nurture</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age-old question– why do we become who we are? Is it because of our nature—we were born to be what we becom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it because of the environment in which we are brought up?</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akes Heathcliff  SOOOO bit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OVE STORY</a:t>
            </a:r>
            <a:endParaRPr b="1" lang="en-US" sz="4400" spc="-1" strike="noStrike">
              <a:solidFill>
                <a:srgbClr val="feec94"/>
              </a:solidFill>
              <a:latin typeface="Times New Roman"/>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are Heathcliff and Catherine the ARCHETYPES (</a:t>
            </a:r>
            <a:r>
              <a:rPr b="0" i="1" lang="en-US" sz="3200" spc="-1" strike="noStrike">
                <a:solidFill>
                  <a:srgbClr val="ffffff"/>
                </a:solidFill>
                <a:latin typeface="Times New Roman"/>
              </a:rPr>
              <a:t>look it up if you don’t know)</a:t>
            </a:r>
            <a:r>
              <a:rPr b="0" lang="en-US" sz="3200" spc="-1" strike="noStrike">
                <a:solidFill>
                  <a:srgbClr val="ffffff"/>
                </a:solidFill>
                <a:latin typeface="Times New Roman"/>
              </a:rPr>
              <a:t> of masculinity and femininit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is their story so endur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do girls ALWAYS choose the “bad boys” who NEVER treat them wel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do girls NEVER appreciate the suitors who are REALLY in love with th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Unconditional</a:t>
            </a:r>
            <a:endParaRPr b="1" lang="en-US" sz="4400" spc="-1" strike="noStrike">
              <a:solidFill>
                <a:srgbClr val="feec94"/>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this story so appealing because Heathcliff’s love is unchanging and uncondit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 for Violence</a:t>
            </a:r>
            <a:endParaRPr b="1" lang="en-US" sz="4400" spc="-1" strike="noStrike">
              <a:solidFill>
                <a:srgbClr val="feec94"/>
              </a:solidFill>
              <a:latin typeface="Times New Roman"/>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many scenes of violence can you identify? (Admit it, you got so used to all of the scenes of violence that you began not to notice the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ind out about Jungian Archetypes</a:t>
            </a:r>
            <a:endParaRPr b="1" lang="en-US" sz="4000" spc="-1" strike="noStrike">
              <a:solidFill>
                <a:srgbClr val="feec94"/>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id Emily Bronte– in the 1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century– create such a torturous love sto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nd what about those Brontes?</a:t>
            </a: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id </a:t>
            </a:r>
            <a:r>
              <a:rPr b="0" lang="en-US" sz="3200" spc="-1" strike="noStrike" u="sng">
                <a:solidFill>
                  <a:srgbClr val="ffffff"/>
                </a:solidFill>
                <a:uFillTx/>
                <a:latin typeface="Times New Roman"/>
              </a:rPr>
              <a:t>two sisters</a:t>
            </a:r>
            <a:r>
              <a:rPr b="0" lang="en-US" sz="3200" spc="-1" strike="noStrike">
                <a:solidFill>
                  <a:srgbClr val="ffffff"/>
                </a:solidFill>
                <a:latin typeface="Times New Roman"/>
              </a:rPr>
              <a:t> become two of the most famous world authors? What about all of the other talented writers in this famil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a:t>
            </a:r>
            <a:r>
              <a:rPr b="0" i="1" lang="en-US" sz="3200" spc="-1" strike="noStrike">
                <a:solidFill>
                  <a:srgbClr val="ffffff"/>
                </a:solidFill>
                <a:latin typeface="Times New Roman"/>
              </a:rPr>
              <a:t>The Dark Quartet</a:t>
            </a:r>
            <a:r>
              <a:rPr b="0" lang="en-US" sz="3200" spc="-1" strike="noStrike">
                <a:solidFill>
                  <a:srgbClr val="ffffff"/>
                </a:solidFill>
                <a:latin typeface="Times New Roman"/>
              </a:rPr>
              <a:t>– a docudrama of the four Brontes– but don’t read it on a dark and stormy nigh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a:t>
            </a:r>
            <a:r>
              <a:rPr b="0" i="1" lang="en-US" sz="3200" spc="-1" strike="noStrike">
                <a:solidFill>
                  <a:srgbClr val="ffffff"/>
                </a:solidFill>
                <a:latin typeface="Times New Roman"/>
              </a:rPr>
              <a:t>Jane Eyre </a:t>
            </a:r>
            <a:r>
              <a:rPr b="0" lang="en-US" sz="3200" spc="-1" strike="noStrike">
                <a:solidFill>
                  <a:srgbClr val="ffffff"/>
                </a:solidFill>
                <a:latin typeface="Times New Roman"/>
              </a:rPr>
              <a:t>the other famous 19</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century nove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a:t>
            </a:r>
            <a:r>
              <a:rPr b="0" i="1" lang="en-US" sz="3200" spc="-1" strike="noStrike">
                <a:solidFill>
                  <a:srgbClr val="ffffff"/>
                </a:solidFill>
                <a:latin typeface="Times New Roman"/>
              </a:rPr>
              <a:t>Heathcliff : The Return to Wuthering Heights </a:t>
            </a:r>
            <a:r>
              <a:rPr b="0" lang="en-US" sz="3200" spc="-1" strike="noStrike">
                <a:solidFill>
                  <a:srgbClr val="ffffff"/>
                </a:solidFill>
                <a:latin typeface="Times New Roman"/>
              </a:rPr>
              <a:t>by Lin-Haire Sargea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a 1992 publication which blends the stories of </a:t>
            </a:r>
            <a:r>
              <a:rPr b="0" i="1" lang="en-US" sz="3200" spc="-1" strike="noStrike">
                <a:solidFill>
                  <a:srgbClr val="ffffff"/>
                </a:solidFill>
                <a:latin typeface="Times New Roman"/>
              </a:rPr>
              <a:t>Wuthering Heights</a:t>
            </a:r>
            <a:r>
              <a:rPr b="0" lang="en-US" sz="3200" spc="-1" strike="noStrike">
                <a:solidFill>
                  <a:srgbClr val="ffffff"/>
                </a:solidFill>
                <a:latin typeface="Times New Roman"/>
              </a:rPr>
              <a:t> and </a:t>
            </a:r>
            <a:r>
              <a:rPr b="0" i="1" lang="en-US" sz="3200" spc="-1" strike="noStrike">
                <a:solidFill>
                  <a:srgbClr val="ffffff"/>
                </a:solidFill>
                <a:latin typeface="Times New Roman"/>
              </a:rPr>
              <a:t>Jane Eyre</a:t>
            </a:r>
            <a:r>
              <a:rPr b="0" lang="en-US" sz="3200" spc="-1" strike="noStrike">
                <a:solidFill>
                  <a:srgbClr val="ffffff"/>
                </a:solidFill>
                <a:latin typeface="Times New Roman"/>
              </a:rPr>
              <a:t>  using Charlotte Bronte as one of the characters. (A sequel, as it were) Don’t read this book until you have read the two original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present . . . </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Mr. Lockwood visits the house known as Wuthering Heights– both of his visits are unwelcome– he is trapped there by a snowstorm and strange things begin to happen as he gets ready to go to b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tap, tapping at the window, a little voice that cries </a:t>
            </a:r>
            <a:r>
              <a:rPr b="0" i="1" lang="en-US" sz="2800" spc="-1" strike="noStrike">
                <a:solidFill>
                  <a:srgbClr val="ffffff"/>
                </a:solidFill>
                <a:latin typeface="Times New Roman"/>
              </a:rPr>
              <a:t>Do let me come in</a:t>
            </a:r>
            <a:r>
              <a:rPr b="0" lang="en-US" sz="2800" spc="-1" strike="noStrike">
                <a:solidFill>
                  <a:srgbClr val="ffffff"/>
                </a:solidFill>
                <a:latin typeface="Times New Roman"/>
              </a:rPr>
              <a:t>, and an icy little hand that grabs Mr. Lockwood’s as he tries to shut the sash of the window set the stage for an intriguing stor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r Lockwood unnerved</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ll, of course, Mr. Lockwood is unnerved– he thinks that he has had a horrible dream UNTI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r. Heathcliff rushes in, throws open the window, and howls for Cathy to haunt </a:t>
            </a:r>
            <a:r>
              <a:rPr b="0" i="1" lang="en-US" sz="3200" spc="-1" strike="noStrike">
                <a:solidFill>
                  <a:srgbClr val="ffffff"/>
                </a:solidFill>
                <a:latin typeface="Times New Roman"/>
              </a:rPr>
              <a:t>him</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s a man to think?</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urally, Mr. Lockwood wants to know the whole story behind the ghost, the unidentified girl who lives with Heathcliff, and whatever other mysteries surround the harsh environment of Wuthering Heights, but how is he to find out what happened twenty years ago– Heathcliff certainly isn’t going to </a:t>
            </a:r>
            <a:r>
              <a:rPr b="1" i="1" lang="en-US" sz="3200" spc="-1" strike="noStrike">
                <a:solidFill>
                  <a:srgbClr val="ffffff"/>
                </a:solidFill>
                <a:latin typeface="Times New Roman"/>
              </a:rPr>
              <a:t>gossi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ut Nelly Dean will gossip</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house that Mr. Lockwood rented for the year there is a housekeeper, Nelly Dean. When Mr. Lockwood comes down with the flu ( he really should have stayed in during the storm) Nelly Dean promises to stay by his sick bed and tell him the WHOLE story about all of the strange goings on at Wuthering Heights BECAU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LLY THE NARRATOR</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lly lived at Wuthering Heights and worked for Catherine’s family (and later for Catherine) all of her life, and she was around to witness AND to participate in all of the event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as Mr. Lockwood recuperates, Nelly Dean entertains Lockwood by telling him the tragic and violent  story of the love between Heathcliff and Catherin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PAST</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w, through Nellie, the reader is taken back (flashback, get it) twenty years to the time when Mr Earnshaw brought home a waif from London and named him Heathcliff.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ader will now, with the help of Nelly’s narration, progress through the past and will eventually (toward the end of the book) permanently return to the pres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ut there is a “catch”</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ember reading the </a:t>
            </a:r>
            <a:r>
              <a:rPr b="0" i="1" lang="en-US" sz="3200" spc="-1" strike="noStrike">
                <a:solidFill>
                  <a:srgbClr val="ffffff"/>
                </a:solidFill>
                <a:latin typeface="Times New Roman"/>
              </a:rPr>
              <a:t>Great Gatsby, Huck Finn, Heart of Darkness, or The Sun Also Ri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times the narrator of a story may not be reliable or truthful. . . .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6T01:12:01Z</dcterms:created>
  <dc:creator>glenn toler</dc:creator>
  <dc:description/>
  <dc:language>en-US</dc:language>
  <cp:lastModifiedBy>User</cp:lastModifiedBy>
  <dcterms:modified xsi:type="dcterms:W3CDTF">2004-08-06T15:53:42Z</dcterms:modified>
  <cp:revision>9</cp:revision>
  <dc:subject/>
  <dc:title>Narrative Patterns in Wuthering Heights</dc:title>
</cp:coreProperties>
</file>